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3902040" y="0"/>
            <a:ext cx="2981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3"/>
          </p:nvPr>
        </p:nvSpPr>
        <p:spPr>
          <a:xfrm>
            <a:off x="-360" y="9410760"/>
            <a:ext cx="2981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4"/>
          </p:nvPr>
        </p:nvSpPr>
        <p:spPr>
          <a:xfrm>
            <a:off x="3902040" y="9410760"/>
            <a:ext cx="2981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EACA-6676-4AC3-A272-C3DCAC82AE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There is a very large variety of models. We can regroup them in Technical Sp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B912-E815-4DE2-8102-3C794096C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C196-04FD-43C8-A774-33B8A728C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B430-08EA-4C48-8DA2-D89F10045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89FF-9389-4862-8A61-2E5FBA24E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6364-0A70-4766-B4CA-62006D545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AA1F-AD0C-42A7-95BF-5614F9181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10C6-C59C-4AB6-A49D-FE5D13398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9B29-0D58-42E2-A132-FBDBA1009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DFED-E67C-4D64-989D-DDF3B104F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59BA-FAD1-43CC-830C-4A5607292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045B-6FF0-45C7-93F6-DBE1DFE24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C4C7-2743-406A-94A3-1B2DB8328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076633AB-8EF8-428B-9B77-C79C1526D586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25884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Alignment of ATL and QV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153200" y="662472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ATLAS N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Alignment of ATL and QV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TLAS group, INRIA &amp; University of Nante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ttp://www.sciences.univ-nantes.fr/lina/atl/</a:t>
            </a:r>
            <a:br>
              <a:rPr sz="4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6585120"/>
            <a:ext cx="944640" cy="27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9855-C9A2-41DC-B7AA-D9C3476065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37680" y="704520"/>
            <a:ext cx="8613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Heterogeneity of data and schemas (modeling languages)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DBMS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XML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RDBMS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R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any others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Need for data translation between heterogeneous data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Need for declarative mappings for schema integration and query answering and transl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ata migration (kind of data translation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haracteristics of Data Engineering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69AE-0C0C-485F-8623-51DB7D2BDA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quirements for QV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2480" y="1163160"/>
            <a:ext cx="84582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incomplete list (consult the QVT specification)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es on MOF models (basically XMI-to-XMI transformation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upports bidirectional transform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clarative language (satisfied by Core and Relations language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hecking the presence of certain relations among mode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FAC2-A551-4889-BAC7-F5E6CD8A99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quirements for AT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2000" y="838080"/>
            <a:ext cx="881532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Major requirement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: ability to deal with various models expressed in different languages and technologi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nification concept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verything is a </a:t>
            </a: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model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echnologies are unified by the concept of </a:t>
            </a: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Technical Spac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Heterogeneity is handled by the notion of </a:t>
            </a: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Technical Projector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ata translation between Technical Spaces is regarded as </a:t>
            </a: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Bridging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16C8-AB32-4E5A-B86B-97A5C5F0864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quirements alignment for ATL and QV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316080" y="1227240"/>
            <a:ext cx="81817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rom the ATL perspective QVT solves transformational problems within the OMG/MDA Technical Sp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Without the concepts of Technical Projector and Bridging real interoperability problems cannot be solved (misses in QV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as a part of AMMA supports these concep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D75F-16AB-43C0-9288-8A94C0A5C75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rchitectural Alignment of ATL and QV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3360" y="1120680"/>
            <a:ext cx="84582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Architecture: set of concepts and relations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Alignment for the major components of ATL and QVT;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Major goal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Comic Sans MS"/>
              </a:rPr>
              <a:t>Achieving interoperability between ATL and QVT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B412-2022-4AF3-8BF1-18C154AA773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QVT Architectur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0760" y="875880"/>
            <a:ext cx="84582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Contains three DSLs that form layers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Relations (declarative)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re (declarative, simpler than Relations)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Operational Mappings (imperative)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30320" y="3373560"/>
          <a:ext cx="7108920" cy="25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3373560"/>
                    <a:ext cx="710892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522E-4471-4D38-95E2-90D15C4F995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formance Points for QVT Too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1360" y="766800"/>
          <a:ext cx="8728200" cy="4662360"/>
        </p:xfrm>
        <a:graphic>
          <a:graphicData uri="http://schemas.openxmlformats.org/drawingml/2006/table">
            <a:tbl>
              <a:tblPr/>
              <a:tblGrid>
                <a:gridCol w="1322280"/>
                <a:gridCol w="1405080"/>
                <a:gridCol w="1484280"/>
                <a:gridCol w="1482840"/>
                <a:gridCol w="1523880"/>
                <a:gridCol w="15098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roperability 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ngu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yntax Execu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MI Execu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yntax Expor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MI Expor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erationa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pp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49200" y="5533920"/>
            <a:ext cx="845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ote that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QVT conformanc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is defined for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tool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. The term “QVT compliant language” is not defined in the sp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60DC-992A-42BB-8356-835899B1046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Architectur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212760" y="717480"/>
            <a:ext cx="86644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Comic Sans MS"/>
              </a:rPr>
              <a:t>Three</a:t>
            </a:r>
            <a:r>
              <a:rPr b="1" lang="en-US" sz="2900" spc="-1" strike="noStrike">
                <a:solidFill>
                  <a:srgbClr val="003366"/>
                </a:solidFill>
                <a:latin typeface="Comic Sans MS"/>
              </a:rPr>
              <a:t>-</a:t>
            </a:r>
            <a:r>
              <a:rPr b="0" lang="en-US" sz="2900" spc="-1" strike="noStrike">
                <a:solidFill>
                  <a:srgbClr val="003366"/>
                </a:solidFill>
                <a:latin typeface="Comic Sans MS"/>
              </a:rPr>
              <a:t>level architectur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692440" y="1562040"/>
          <a:ext cx="428796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1562040"/>
                    <a:ext cx="428796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5B05-6DAD-4E89-B193-9260FC7B31A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1896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Compon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3360" y="1285920"/>
            <a:ext cx="84582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MW (ATLAS Model Weaver): Generic metamodel for establishing links among model elements (metamodel for model weaving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ool for defining domain specific transformation languag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32640" indent="-3326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: hybrid transformation languag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emantics of AMW extensions may be defined by ATL transformat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32640" indent="-3326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VM: virtual machine for executing model transform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66BE-A705-4CF1-B704-43DE6DEFA25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and QVT Component Alignment (1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-34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n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40120" y="1545840"/>
            <a:ext cx="12600" cy="19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4960" y="774720"/>
          <a:ext cx="8045640" cy="5302080"/>
        </p:xfrm>
        <a:graphic>
          <a:graphicData uri="http://schemas.openxmlformats.org/drawingml/2006/table">
            <a:tbl>
              <a:tblPr/>
              <a:tblGrid>
                <a:gridCol w="1327320"/>
                <a:gridCol w="2076480"/>
                <a:gridCol w="2307960"/>
                <a:gridCol w="2333880"/>
              </a:tblGrid>
              <a:tr h="382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V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traction Level of Transformation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re, Operational Mapp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nsformation Sce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l synchr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a a separate trans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formance che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a a separate trans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l trans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W, ATL,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Core,  Operational Mapp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BEC2-2D1C-4027-AE02-38004BB04D8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7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7715-06F1-4219-B8A5-C83777003C9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and QVT Alignment (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-34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n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27120" y="814320"/>
          <a:ext cx="7823160" cy="5159520"/>
        </p:xfrm>
        <a:graphic>
          <a:graphicData uri="http://schemas.openxmlformats.org/drawingml/2006/table">
            <a:tbl>
              <a:tblPr/>
              <a:tblGrid>
                <a:gridCol w="1200240"/>
                <a:gridCol w="2011320"/>
                <a:gridCol w="2292120"/>
                <a:gridCol w="231948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V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adi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cla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Co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yb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m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erational Mapp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rect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ltidirec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idirec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,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erational Mapp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rdi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-to-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, AMW,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erational Mappings, Relations and Core (in checkonly mo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-to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 and Core (in enforce mo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ce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utoma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Operational Mapp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ser-spec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-place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 (in refining mode),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Core, Operational Mapp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51E4-626C-4949-8321-45610FCB2A6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and QVT Interoperability (1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760" y="937800"/>
            <a:ext cx="863136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Interoperability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: executing programs written in one language with the tools designed for another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243000" y="2130480"/>
            <a:ext cx="8631000" cy="34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otivation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xecution and support too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ssume you have a wonderful language without engine and a not so nice language with execution engi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mpliance to standard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f QVT programs run on the ATL VM then the ATL VM is QVT conforma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3E97-BF16-4B30-894E-52DD9C654E0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and QVT Interoperability (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1600" y="721800"/>
            <a:ext cx="863136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ramework for reasoning about interoperability among ATL and QVT component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65120" y="1601640"/>
          <a:ext cx="6121440" cy="472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601640"/>
                    <a:ext cx="6121440" cy="47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66FA-D03B-4EE6-851E-EA9E8C748ED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6488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and QVT Interoperability (3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38040" y="1052640"/>
          <a:ext cx="8457480" cy="4952160"/>
        </p:xfrm>
        <a:graphic>
          <a:graphicData uri="http://schemas.openxmlformats.org/drawingml/2006/table">
            <a:tbl>
              <a:tblPr/>
              <a:tblGrid>
                <a:gridCol w="1491120"/>
                <a:gridCol w="1492200"/>
                <a:gridCol w="1491120"/>
                <a:gridCol w="1491120"/>
                <a:gridCol w="1246320"/>
                <a:gridCol w="1245600"/>
              </a:tblGrid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Re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verse engine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M-to-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 compi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-to-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6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re-to-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6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Re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-to-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47760" y="1068480"/>
            <a:ext cx="1468440" cy="81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089B-907C-400A-AB02-65B388D3162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clus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400" y="742680"/>
            <a:ext cx="845820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and QVT have common features but their problem domains are different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QVT is mainly for software development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TL aims at solving data engineering transformation problem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rchitectural alignment between ATL and QVT shows that language interoperability is feasible via model transform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tools may be called QVT conformant after the required transformations are provide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t is interesting to generalize the framework for reasoning on ATL and QVT to other languag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0F94-EC7C-4D92-AB6C-7B8FC324BC62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8872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rerequisit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 be able to understand this lecture, a reader should be familiar with the following concepts, languages, and standards: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Model Driven Engineering (MDE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The role of model transformations in MDE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QVT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ATL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MOF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FE8F-AC1E-4C52-8C27-F509D5AC66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utlin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760" y="988560"/>
            <a:ext cx="84582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Need for ATL and QVT alignment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Requirements alignment of ATL and QVT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Architectural alignment of ATL and QVT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QVT architecture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TL architecture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ligning the architectural component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Achieving interoperability between ATL and QVT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Conclusions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AE27-AC5F-4304-B941-F16C6C4521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1896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 DSL Perspective on M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3360" y="1285920"/>
            <a:ext cx="845820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DE allows definition of small (and large) languages, focused on specific problems known as Domain Specific Languages (DSL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ypical tasks in MDE also require DSLs: for example, model transformations and language defini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set of transformation languages exist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3662-10C4-4FAC-88C1-DBFFAC3EEB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roblem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8160" y="99864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Language fragmentation (Babylon tower)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Need for managing DSL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Multiple languages per problem domain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Problem domains often overlap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Need for choosing among DSL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Need for clear guidelines and knowledge for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Matching the problem domain and the available solutions (DSLs)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Explicit comparison among languages to allow selection of the right tool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88BA-C41B-4B8B-BB29-DB44B0516F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ligning ATL and QV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3360" y="1120320"/>
            <a:ext cx="84582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Two model transformation languages for MDE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Solving the same problem (at first glance)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s that true?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Comparing ATL and QVT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t problem domain level: what problems can be solved, what are the requirements per language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t architectural level: components and major capabilitie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D7CE-2849-4656-BA7C-7C6C1CC503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01760" y="1155600"/>
            <a:ext cx="8434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What are the problem domains of ATL and QVT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QVT is proposed in the context of OMG MDA approac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argeted at softwar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requirements evolved towards solving interoperability problems in data engineer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ay solve software development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Deals with heterogene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quirements Alignment of ATL and QV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B80E-3E8B-49D8-8CA1-11D8C40658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haracteristics of Software Developmen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2440" y="795240"/>
            <a:ext cx="8470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ransformations are mainly refinement of models;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odels are expressed in a limited set of languages (e.g. UML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Languages often share the same conceptual foundation: Object-Oriented Principl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ransformations should be semantic preserving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oftware development is iterativ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hange propagation should be supported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paration of concern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Need for model composit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verse Engineering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factoring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F538-F74F-434B-8AEC-554C3C33E54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Frédéric Jouault</dc:creator>
  <dc:description/>
  <dc:language>en-US</dc:language>
  <cp:lastModifiedBy>Kurtev</cp:lastModifiedBy>
  <dcterms:modified xsi:type="dcterms:W3CDTF">2006-07-17T11:31:30Z</dcterms:modified>
  <cp:revision>687</cp:revision>
  <dc:subject>Model transformation with ATL</dc:subject>
  <dc:title>Model transformation with AT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8291993</vt:r8>
  </property>
  <property fmtid="{D5CDD505-2E9C-101B-9397-08002B2CF9AE}" pid="3" name="_AuthorEmail">
    <vt:lpwstr>frederic.jouault@univ-nantes.fr</vt:lpwstr>
  </property>
  <property fmtid="{D5CDD505-2E9C-101B-9397-08002B2CF9AE}" pid="4" name="_AuthorEmailDisplayName">
    <vt:lpwstr>Frédéric Jouault</vt:lpwstr>
  </property>
  <property fmtid="{D5CDD505-2E9C-101B-9397-08002B2CF9AE}" pid="5" name="_ReviewingToolsShownOnce">
    <vt:lpwstr/>
  </property>
</Properties>
</file>